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bserie06.wav" ContentType="audio/x-wav"/>
  <Override PartName="/ppt/media/highchime.wav" ContentType="audio/x-wav"/>
  <Override PartName="/ppt/media/image3.gif" ContentType="image/gif"/>
  <Override PartName="/ppt/media/projctor.wav" ContentType="audio/x-wav"/>
  <Override PartName="/ppt/media/image2.gif" ContentType="image/gif"/>
  <Override PartName="/ppt/media/zipdn102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A3F-D4B8-44C8-8C13-FC9F2DD2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546-7DF3-445A-9A99-CFCB926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C29-F01D-4D76-8195-9A09CB47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0EB-6B5A-435C-A874-31D72253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242-ADB3-4374-A40C-91ACDE25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704-EEAD-4937-985E-20B7627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02C-E91F-4BC4-9FD4-EE40B58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53F-F1E1-490D-8BFC-73AA26AC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E2D-19C2-4645-945B-26ADA44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A17-C462-41A3-89AC-091B512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8C7-7BDB-48BE-9541-3F91327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A3B-5ED3-4F4C-8258-453B388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173E-B11C-4AB5-85E1-DFF9D430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zipdn102.wav"/><Relationship Id="rId3" Type="http://schemas.openxmlformats.org/officeDocument/2006/relationships/audio" Target="../media/fastca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zipdn102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609480"/>
            <a:ext cx="5229360" cy="32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Race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Preparation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962520"/>
            <a:ext cx="45720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685800"/>
            <a:ext cx="4695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Races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419720" y="3733920"/>
            <a:ext cx="41148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animMotion origin="layout" path="M 3.33333E-006 4.62428E-006 L 0.73333 4.62428E-006 E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1447920"/>
                <a:ext cx="800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95320" y="1447920"/>
                <a:ext cx="69786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28480" y="1447920"/>
                <a:ext cx="7713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8000" y="1219320"/>
                <a:ext cx="90360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36520" y="1219320"/>
                <a:ext cx="69789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38280" y="1447920"/>
                <a:ext cx="74930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6280" y="1219320"/>
                <a:ext cx="83008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0" y="1360440"/>
                <a:ext cx="91440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00000" y="1360440"/>
                <a:ext cx="73422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33400" y="1360440"/>
                <a:ext cx="56739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609480"/>
                <a:ext cx="700884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1040" y="576360"/>
                <a:ext cx="76755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47880" y="1343160"/>
                <a:ext cx="69418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80920" y="576360"/>
                <a:ext cx="707724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1040" y="576360"/>
                <a:ext cx="767880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14480" y="1343160"/>
                <a:ext cx="68104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0" y="1325520"/>
                <a:ext cx="914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1120" y="1343160"/>
                <a:ext cx="747720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7840" y="576360"/>
                <a:ext cx="79437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14400" y="576360"/>
                <a:ext cx="700884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82680" y="1343160"/>
                <a:ext cx="44722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16120" y="1343160"/>
                <a:ext cx="540684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16200" y="1442880"/>
                <a:ext cx="52070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47880" y="1343160"/>
                <a:ext cx="69436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47640" y="1343160"/>
                <a:ext cx="75438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4360" y="574560"/>
                <a:ext cx="801216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80880" y="1343160"/>
                <a:ext cx="8078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533520"/>
                <a:ext cx="705636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1120" y="1343160"/>
                <a:ext cx="747864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7400" y="685800"/>
            <a:ext cx="4695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Homework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6483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3000" y="380880"/>
                <a:ext cx="3886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986360" y="380880"/>
                <a:ext cx="3809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8360" y="1219320"/>
                <a:ext cx="4496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997520" y="1219320"/>
                <a:ext cx="4146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97520" y="2057400"/>
                <a:ext cx="4146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0960" y="2057400"/>
                <a:ext cx="346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25360" y="3095640"/>
                <a:ext cx="3651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059440" y="2666880"/>
                <a:ext cx="37558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8600" y="4049640"/>
                <a:ext cx="34401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68920" y="4100400"/>
                <a:ext cx="326556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5700600"/>
                <a:ext cx="3265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82960" y="5700600"/>
                <a:ext cx="2738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46040" y="533520"/>
                <a:ext cx="799308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1:07:33Z</dcterms:created>
  <dc:creator>CCSS</dc:creator>
  <dc:description/>
  <dc:language>en-US</dc:language>
  <cp:lastModifiedBy>damon.skelton</cp:lastModifiedBy>
  <dcterms:modified xsi:type="dcterms:W3CDTF">2005-10-12T12:44:44Z</dcterms:modified>
  <cp:revision>6</cp:revision>
  <dc:subject/>
  <dc:title>PowerPoint Presentation</dc:title>
</cp:coreProperties>
</file>